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E042-AFA9-45F5-8123-760054A95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7E5E-A8DD-4EA2-A697-DB6DE152B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F0F5-87E4-4A18-A7BA-F80286A9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099D-5E73-4261-8C70-92F6BA32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3338-3BBA-4A8D-A031-A99A7839C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0F2D-F3DA-4A24-9A3F-DB1CAADF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BD1F-0561-49D9-AEDF-314C9638D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142F-38FA-4FAE-BCBF-B7DC0727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C525-D63C-43AF-8F7A-030F0593D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E126-BFA8-40C4-ABC2-8A2384684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2307-12E4-45B1-AC44-B639D07F7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6CBD-C211-49E5-9FDD-AE4C2310A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7118-BB9A-4303-8D21-3FF329EA5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BA42-661C-446C-AA1D-3E60C4F1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6852-D259-4152-9C31-5990B206D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9A91-BA7D-40DD-B5D2-4C9F0BE28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053E-094C-4126-84DE-D36157206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1AEC-32E0-470B-B3C1-C6CD7911C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7D4D-122F-42C3-9684-A6D121B4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2672-3138-4E16-B738-631514617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579F-1C20-4F9D-9154-EFC574A9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5704-702A-4977-B03F-50999CE4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85BD-A6D7-42C2-8E78-C6EE11FA2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0A45-DA6D-4DE3-9447-F6EE47797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9862-83AE-4FEF-AC63-EA6C6C387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0694-FC85-4B5A-9906-FF0B33E64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9ED-9E01-4730-8157-309B1CC5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501-6A6E-4E28-B025-25DEBEB9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D9B-6506-4DB7-A791-5A282DF1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CE1-8381-40C2-98B6-6426C102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0485-74CD-41F8-A35C-B3214797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8C5D-6674-41E7-90E4-0FB96B11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4EAA-8650-46A2-A10B-781002B5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2D3-7D4D-450D-8EB2-C2AE4BB5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3FC2-95B0-4D56-808A-B81B49C8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D8FD-2F2D-4A99-866C-81A2F551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490F-0BA4-4180-AF19-010360E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323-B43F-4DD5-B371-B32EC7D6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4AFA-E462-4DFC-8542-5E3C7A6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90CA-4F12-43FB-9F2F-EB5B5B24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B13C-BB40-4B1D-977D-E5811F63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5875-0128-4ABD-A49A-B38A3896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325A-18D0-4022-ADC1-714438A1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C73-D0AC-4CFB-8859-5BBD5DD5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FEF-8895-4707-ACC2-B76EE78E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9CA-0F19-448F-A853-4BED133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DA6-95B6-4FB5-AF4F-0111A843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496-EF2A-4D48-A4B8-22CE4C5E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403-2023-49B9-9AF9-9BA33B8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158-3962-4E78-A062-CF630A8F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5EE1-8030-4F96-B53A-CBA1F7DC14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327B-E317-40AA-B12E-89645B0890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www.mjsd1.ca/~cci/library/arrow.gif&amp;imgrefurl=http://www.mjsd1.ca/~cci/library/&amp;h=190&amp;w=190&amp;sz=2&amp;tbnid=W3GrNQG3RLYJ:&amp;tbnh=97&amp;tbnw=97&amp;hl=en&amp;start=13&amp;prev=/images%3Fq%3Darrow%26svnum%3D10%26hl%3Den%26lr%3D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mjsd1.ca/~cci/library/arrow.gif&amp;imgrefurl=http://www.mjsd1.ca/~cci/library/&amp;h=190&amp;w=190&amp;sz=2&amp;tbnid=W3GrNQG3RLYJ:&amp;tbnh=97&amp;tbnw=97&amp;hl=en&amp;start=13&amp;prev=/images%3Fq%3Darrow%26svnum%3D10%26hl%3Den%26lr%3D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i.fullerton.ca.us/graphics/focus130.gif&amp;imgrefurl=http://www.ci.fullerton.ca.us/city_manager/focus/focussept00.html&amp;h=170&amp;w=200&amp;sz=17&amp;tbnid=l9hLR5zSX34J:&amp;tbnh=84&amp;tbnw=99&amp;hl=en&amp;start=14&amp;prev=/images%3Fq%3DCartoon%2BCar%26svnum%3D10%26hl%3Den%26lr%3D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avingasoftware.nl/software/ThreeDimSim/ex2/images/zb100_3b.gif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autoclipart.com/stuff/images/1608766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bmgrp.com/images/product/galant/Air-Bag-Galant.jpg&amp;imgrefurl=http://www.sbmgrp.com/product_eng/galant/galant_interior.htm&amp;h=143&amp;w=200&amp;sz=20&amp;tbnid=-PkGJEwFlPMJ:&amp;tbnh=70&amp;tbnw=99&amp;hl=en&amp;start=5&amp;prev=/images%3Fq%3DCar%2BAir%2BBag%2B%26svnum%3D10%26hl%3Den%26lr%3D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safetyairbags.com/images/dummies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peedski.com/images/CarolynCurl-bike-motion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808080"/>
                </a:solidFill>
                <a:latin typeface="Pussycat"/>
              </a:rPr>
              <a:t>Momentum and Its Conservation</a:t>
            </a:r>
            <a:br>
              <a:rPr sz="6300"/>
            </a:br>
            <a:r>
              <a:rPr b="0" lang="en-US" sz="3600" spc="-1" strike="noStrike">
                <a:solidFill>
                  <a:srgbClr val="808080"/>
                </a:solidFill>
                <a:latin typeface="Myriad Web"/>
              </a:rPr>
              <a:t>chapter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67632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rom our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ages 198-2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Pussycat"/>
              </a:rPr>
              <a:t>Impulse-Momentum Theor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ahoma"/>
              </a:rPr>
              <a:t>Impulse = 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u4l1c1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2911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arr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3962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arrow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886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34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80"/>
                </a:solidFill>
                <a:latin typeface="Pussycat"/>
              </a:rPr>
              <a:t>Using the Impulse-Momentum Theorem in real lif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Tahoma"/>
              </a:rPr>
              <a:t>Exampl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 algn="r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If a car is traveling at a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fast speed and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suddenly stopped by a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thick brick wall, how wi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its momentum and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808080"/>
                </a:solidFill>
                <a:latin typeface="Tahoma"/>
              </a:rPr>
              <a:t>impulse affect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focus1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276720"/>
            <a:ext cx="251460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b100_3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447920"/>
            <a:ext cx="4562640" cy="2498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608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4175280"/>
            <a:ext cx="4515120" cy="2412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An impulse is needed to bring the driver’s momentum to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Tahoma"/>
              </a:rPr>
              <a:t>What can be used to decrease the force exerted on the driver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An </a:t>
            </a:r>
            <a:r>
              <a:rPr b="1" lang="en-US" sz="3400" spc="-1" strike="noStrike">
                <a:solidFill>
                  <a:srgbClr val="808080"/>
                </a:solidFill>
                <a:latin typeface="Arial"/>
              </a:rPr>
              <a:t>AIR BAG</a:t>
            </a:r>
            <a:r>
              <a:rPr b="0" lang="en-US" sz="3400" spc="-1" strike="noStrike">
                <a:solidFill>
                  <a:srgbClr val="808080"/>
                </a:solidFill>
                <a:latin typeface="Arial"/>
              </a:rPr>
              <a:t> is used to reduce the force exerted on the driver by greatly increasing the length of time the force is exerted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Air-Bag-Gala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267080"/>
            <a:ext cx="3200400" cy="226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dummi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581280"/>
            <a:ext cx="33861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Pussycat"/>
              </a:rPr>
              <a:t>To Explain: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e initial velocity is the same with or without the airba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e air bag is used to reduce the force by increasing the time it takes the driver to hit the steering whe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rash-test-dummy"/>
          <p:cNvPicPr/>
          <p:nvPr/>
        </p:nvPicPr>
        <p:blipFill>
          <a:blip r:embed="rId1"/>
          <a:stretch/>
        </p:blipFill>
        <p:spPr>
          <a:xfrm>
            <a:off x="6248520" y="3886200"/>
            <a:ext cx="2558880" cy="2781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rash-test-dummy"/>
          <p:cNvPicPr/>
          <p:nvPr/>
        </p:nvPicPr>
        <p:blipFill>
          <a:blip r:embed="rId2"/>
          <a:stretch/>
        </p:blipFill>
        <p:spPr>
          <a:xfrm>
            <a:off x="4419720" y="1447920"/>
            <a:ext cx="2666880" cy="23637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Pussycat"/>
              </a:rPr>
              <a:t>It’s time to go to work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What is the momentum of a 16 kg bowling ball rolling at 4 m/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Tahoma"/>
              </a:rPr>
              <a:t>momentum = mass * velo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What we know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M = 16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V = 4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16 kg * 4 m/s = 64 kg * m/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808080"/>
                </a:solidFill>
                <a:latin typeface="Tahoma"/>
              </a:rPr>
              <a:t>= 64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2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920"/>
                            </p:stCondLst>
                            <p:childTnLst>
                              <p:par>
                                <p:cTn id="2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470"/>
                            </p:stCondLst>
                            <p:childTnLst>
                              <p:par>
                                <p:cTn id="2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470"/>
                            </p:stCondLst>
                            <p:childTnLst>
                              <p:par>
                                <p:cTn id="2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770"/>
                            </p:stCondLst>
                            <p:childTnLst>
                              <p:par>
                                <p:cTn id="22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80"/>
                </a:solidFill>
                <a:latin typeface="Pussycat"/>
              </a:rPr>
              <a:t>More Fun Work:</a:t>
            </a:r>
            <a:br>
              <a:rPr sz="6000"/>
            </a:br>
            <a:r>
              <a:rPr b="0" lang="en-US" sz="6000" spc="-1" strike="noStrike">
                <a:solidFill>
                  <a:srgbClr val="808080"/>
                </a:solidFill>
                <a:latin typeface="Pussycat"/>
              </a:rPr>
              <a:t>Multi-Step Proble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A. What is the momentum of a 50 kg box that moves 8 m/s across a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Tahoma"/>
              </a:rPr>
              <a:t>What we know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M = 50 k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V = 8 m/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Momentum = 50 kg * 8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= 40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155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1155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1155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1155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B. The moving box hits a pillow and stops in .5 seconds. What is the average force it exerts on the pill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**remember** F (delta) t = m*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What 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t = 0.5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 = 50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V = 8 m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F (0.5s-0s) = 50 kg * 8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F (0.5s) = 40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     </a:t>
            </a:r>
            <a:r>
              <a:rPr b="1" lang="en-US" sz="2700" spc="-1" strike="noStrike">
                <a:solidFill>
                  <a:srgbClr val="808080"/>
                </a:solidFill>
                <a:latin typeface="Tahoma"/>
              </a:rPr>
              <a:t>F = 800 N</a:t>
            </a:r>
            <a:br>
              <a:rPr sz="2700"/>
            </a:b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5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5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5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65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7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7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3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7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650"/>
                            </p:stCondLst>
                            <p:childTnLst>
                              <p:par>
                                <p:cTn id="3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4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4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4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4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4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4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4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4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155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1155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1155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1155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C. What average force does the pillow exert on the bo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Tahoma"/>
              </a:rPr>
              <a:t>800 N </a:t>
            </a:r>
            <a:r>
              <a:rPr b="0" lang="en-US" sz="2700" spc="-1" strike="noStrike">
                <a:solidFill>
                  <a:srgbClr val="80808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The same force used to stop the b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The same equation is 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900"/>
                            </p:stCondLst>
                            <p:childTnLst>
                              <p:par>
                                <p:cTn id="3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300"/>
                            </p:stCondLst>
                            <p:childTnLst>
                              <p:par>
                                <p:cTn id="3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808080"/>
                </a:solidFill>
                <a:latin typeface="Pussycat"/>
              </a:rPr>
              <a:t>Momentum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mmonly used in terms of sports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Arial"/>
              </a:rPr>
              <a:t>(i.e. The team has a lot of momentum before the big championship ga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Arial"/>
              </a:rPr>
              <a:t>The team with momentum is “on the move” and will be hard to defea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1000" cy="29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808080"/>
                </a:solidFill>
                <a:latin typeface="Pussycat"/>
              </a:rPr>
              <a:t>9.2 The Conservation of Momentum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791320" y="5409720"/>
            <a:ext cx="3047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Pages 207- 2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8080"/>
                </a:solidFill>
                <a:latin typeface="Pussycat"/>
              </a:rPr>
              <a:t>Two- Particle Collisio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According to Newton’s third law of motion, if two balls collide, despite different velocities and sizes, the forces exerted on each other will be equal and oppos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460a96960"/>
          <p:cNvPicPr/>
          <p:nvPr/>
        </p:nvPicPr>
        <p:blipFill>
          <a:blip r:embed="rId1"/>
          <a:stretch/>
        </p:blipFill>
        <p:spPr>
          <a:xfrm>
            <a:off x="662940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14"/>
          <p:cNvPicPr/>
          <p:nvPr/>
        </p:nvPicPr>
        <p:blipFill>
          <a:blip r:embed="rId2"/>
          <a:stretch/>
        </p:blipFill>
        <p:spPr>
          <a:xfrm>
            <a:off x="4648320" y="358128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15"/>
          <p:cNvPicPr/>
          <p:nvPr/>
        </p:nvPicPr>
        <p:blipFill>
          <a:blip r:embed="rId3"/>
          <a:stretch/>
        </p:blipFill>
        <p:spPr>
          <a:xfrm>
            <a:off x="2666880" y="3505320"/>
            <a:ext cx="129564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1" descr="447264640"/>
          <p:cNvPicPr/>
          <p:nvPr/>
        </p:nvPicPr>
        <p:blipFill>
          <a:blip r:embed="rId4"/>
          <a:stretch/>
        </p:blipFill>
        <p:spPr>
          <a:xfrm>
            <a:off x="1066680" y="51055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path" presetID="35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61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808080"/>
                </a:solidFill>
                <a:latin typeface="Pussycat"/>
              </a:rPr>
              <a:t>Two- Particle Collision!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During the collision, the two balls quickly exert a force on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The time intervals over which the forces are exerted are the same so they must be equal in magnitude but opposite in dir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460a96960"/>
          <p:cNvPicPr/>
          <p:nvPr/>
        </p:nvPicPr>
        <p:blipFill>
          <a:blip r:embed="rId1"/>
          <a:stretch/>
        </p:blipFill>
        <p:spPr>
          <a:xfrm>
            <a:off x="4876920" y="52387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447264640"/>
          <p:cNvPicPr/>
          <p:nvPr/>
        </p:nvPicPr>
        <p:blipFill>
          <a:blip r:embed="rId2"/>
          <a:stretch/>
        </p:blipFill>
        <p:spPr>
          <a:xfrm>
            <a:off x="335268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15"/>
          <p:cNvPicPr/>
          <p:nvPr/>
        </p:nvPicPr>
        <p:blipFill>
          <a:blip r:embed="rId3"/>
          <a:stretch/>
        </p:blipFill>
        <p:spPr>
          <a:xfrm>
            <a:off x="5257800" y="4191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14"/>
          <p:cNvPicPr/>
          <p:nvPr/>
        </p:nvPicPr>
        <p:blipFill>
          <a:blip r:embed="rId4"/>
          <a:stretch/>
        </p:blipFill>
        <p:spPr>
          <a:xfrm>
            <a:off x="3276720" y="42670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35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7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8080"/>
                </a:solidFill>
                <a:latin typeface="Pussycat"/>
              </a:rPr>
              <a:t>It’s Time to go to Work!</a:t>
            </a:r>
            <a:br>
              <a:rPr sz="8800"/>
            </a:br>
            <a:r>
              <a:rPr b="0" lang="en-US" sz="2800" spc="-1" strike="noStrike">
                <a:solidFill>
                  <a:srgbClr val="808080"/>
                </a:solidFill>
                <a:latin typeface="Pussycat"/>
              </a:rPr>
              <a:t>Multi-step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A 10 kg monster walking 1 m/s eats a 1 kg monster at rest. (A.) What is the speed of the bigger monster immediately afterw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10 kg * 1 m/s = 10 kg *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1 kg * 0 m/s = </a:t>
            </a:r>
            <a:r>
              <a:rPr b="0" lang="en-US" sz="2400" spc="-1" strike="noStrike" u="sng">
                <a:solidFill>
                  <a:srgbClr val="808080"/>
                </a:solidFill>
                <a:uFillTx/>
                <a:latin typeface="Tahoma"/>
              </a:rPr>
              <a:t> 0 kg *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10 kg *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(10 kg + 1 kg) * v = 10 kg *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v = 10/11 m/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700"/>
                            </p:stCondLst>
                            <p:childTnLst>
                              <p:par>
                                <p:cTn id="395" nodeType="afterEffect" fill="hold" presetClass="entr" presetID="56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4700"/>
                            </p:stCondLst>
                            <p:childTnLst>
                              <p:par>
                                <p:cTn id="402" nodeType="afterEffect" fill="hold" presetClass="entr" presetID="34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9200"/>
                            </p:stCondLst>
                            <p:childTnLst>
                              <p:par>
                                <p:cTn id="409" nodeType="afterEffect" fill="hold" presetClass="emph" presetID="34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B.) What would its speed be if the smaller monster were walking toward the bigger one 8 m/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10 kg * 1 m/s = 10 kg * m/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1  kg * 8 m/s =</a:t>
            </a:r>
            <a:r>
              <a:rPr b="0" lang="en-US" sz="2300" spc="-1" strike="noStrike" u="sng">
                <a:solidFill>
                  <a:srgbClr val="808080"/>
                </a:solidFill>
                <a:uFillTx/>
                <a:latin typeface="Tahoma"/>
              </a:rPr>
              <a:t>- 8 kg * m/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      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2 kg * m/s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11 kg * v = 2 kg * m/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808080"/>
                </a:solidFill>
                <a:latin typeface="Tahoma"/>
              </a:rPr>
              <a:t>  </a:t>
            </a:r>
            <a:r>
              <a:rPr b="1" lang="en-US" sz="2300" spc="-1" strike="noStrike">
                <a:solidFill>
                  <a:srgbClr val="808080"/>
                </a:solidFill>
                <a:latin typeface="Tahoma"/>
              </a:rPr>
              <a:t>v = 2/11 m/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4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4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3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800"/>
                            </p:stCondLst>
                            <p:childTnLst>
                              <p:par>
                                <p:cTn id="442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1800"/>
                            </p:stCondLst>
                            <p:childTnLst>
                              <p:par>
                                <p:cTn id="450" nodeType="afterEffect" fill="hold" presetClass="entr" presetID="38">
                                  <p:stCondLst>
                                    <p:cond delay="3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808080"/>
                </a:solidFill>
                <a:latin typeface="Pussycat"/>
              </a:rPr>
              <a:t>The En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057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r. Arbo! Give me an 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football_player_05"/>
          <p:cNvPicPr/>
          <p:nvPr/>
        </p:nvPicPr>
        <p:blipFill>
          <a:blip r:embed="rId1"/>
          <a:stretch/>
        </p:blipFill>
        <p:spPr>
          <a:xfrm>
            <a:off x="0" y="2438280"/>
            <a:ext cx="4124160" cy="4419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momentum"/>
          <p:cNvPicPr/>
          <p:nvPr/>
        </p:nvPicPr>
        <p:blipFill>
          <a:blip r:embed="rId2"/>
          <a:stretch/>
        </p:blipFill>
        <p:spPr>
          <a:xfrm>
            <a:off x="4800600" y="4191120"/>
            <a:ext cx="3886200" cy="244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basketball"/>
          <p:cNvPicPr/>
          <p:nvPr/>
        </p:nvPicPr>
        <p:blipFill>
          <a:blip r:embed="rId3"/>
          <a:stretch/>
        </p:blipFill>
        <p:spPr>
          <a:xfrm>
            <a:off x="5943600" y="990720"/>
            <a:ext cx="2590920" cy="30477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8080"/>
                </a:solidFill>
                <a:latin typeface="Pussycat"/>
              </a:rPr>
              <a:t>Momentu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omentum is also a physics te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Momentum- the quantity of motion that an object has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All objects have mass, so if an object is moving, it has momentum (“mass in motion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80" y="52538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u4l1a1"/>
          <p:cNvPicPr/>
          <p:nvPr/>
        </p:nvPicPr>
        <p:blipFill>
          <a:blip r:embed="rId1"/>
          <a:stretch/>
        </p:blipFill>
        <p:spPr>
          <a:xfrm>
            <a:off x="-4506840" y="2712960"/>
            <a:ext cx="1733400" cy="933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u4l1a1"/>
          <p:cNvPicPr/>
          <p:nvPr/>
        </p:nvPicPr>
        <p:blipFill>
          <a:blip r:embed="rId2"/>
          <a:stretch/>
        </p:blipFill>
        <p:spPr>
          <a:xfrm>
            <a:off x="4267080" y="4267080"/>
            <a:ext cx="3409920" cy="1836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arolynCurl-bike-mo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2762280" cy="237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ball"/>
          <p:cNvPicPr/>
          <p:nvPr/>
        </p:nvPicPr>
        <p:blipFill>
          <a:blip r:embed="rId3"/>
          <a:stretch/>
        </p:blipFill>
        <p:spPr>
          <a:xfrm>
            <a:off x="47242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Isaac_Newton_cartoon"/>
          <p:cNvPicPr/>
          <p:nvPr/>
        </p:nvPicPr>
        <p:blipFill>
          <a:blip r:embed="rId4"/>
          <a:stretch/>
        </p:blipFill>
        <p:spPr>
          <a:xfrm>
            <a:off x="2209680" y="4191120"/>
            <a:ext cx="2257560" cy="21812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57 0.00763 L 0.30157 0.00763 E">
                                      <p:cBhvr>
                                        <p:cTn id="73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e amount of momentum an object has is dependent on two variab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ctr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MASS-</a:t>
            </a: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 How much is mo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(weigh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ctr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VELOCITY</a:t>
            </a: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-How fast the it is mo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(spe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Pussycat"/>
              </a:rPr>
              <a:t>Momentum E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momentum of an object is equal to the mass of the object times the velocity of th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Momentum = Mass times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8080"/>
                </a:solidFill>
                <a:latin typeface="Pussycat"/>
              </a:rPr>
              <a:t>IMPU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The product of the average force and the time interval over which it a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Unit of measurement is Newton-sec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N * 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ahoma"/>
              </a:rPr>
              <a:t>The impulse on an object is equal to the change in momentum that it caus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Pussycat"/>
              </a:rPr>
              <a:t>Also Known A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800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21:08:47Z</dcterms:created>
  <dc:creator>Sarah</dc:creator>
  <dc:description/>
  <dc:language>en-US</dc:language>
  <cp:lastModifiedBy>Admin</cp:lastModifiedBy>
  <dcterms:modified xsi:type="dcterms:W3CDTF">2007-04-03T20:09:26Z</dcterms:modified>
  <cp:revision>21</cp:revision>
  <dc:subject/>
  <dc:title>Physics Power Point Presentation</dc:title>
</cp:coreProperties>
</file>